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gif" ContentType="image/gif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6.png" ContentType="image/png"/>
  <Override PartName="/ppt/media/image10.gif" ContentType="image/gif"/>
  <Override PartName="/ppt/media/image21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2.jpeg" ContentType="image/jpeg"/>
  <Override PartName="/ppt/media/image3.png" ContentType="image/png"/>
  <Override PartName="/ppt/media/image15.gif" ContentType="image/gif"/>
  <Override PartName="/ppt/media/image19.png" ContentType="image/png"/>
  <Override PartName="/ppt/media/image16.gif" ContentType="image/gif"/>
  <Override PartName="/ppt/media/image14.gif" ContentType="image/gif"/>
  <Override PartName="/ppt/media/image4.gif" ContentType="image/gif"/>
  <Override PartName="/ppt/media/image1.jpeg" ContentType="image/jpeg"/>
  <Override PartName="/ppt/media/image5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3F51-4558-4B17-8680-47643906A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6350-0443-4F0E-A4E2-1FB3025B2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14D2-7AE8-47EC-AE36-95FDDF5E4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C762-CD29-4861-B19D-AC176B427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29EFD-AE80-4F59-A557-3909EA134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01F55-0A58-4418-AFF1-01A5E1D15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4C6D6-8F17-42A5-A39C-DD6E8DD1C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AD492-A9A3-4E50-8824-5E1E58B59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A71E5-1B3D-47E1-B810-A9D739C42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1616E-DC54-48D5-9CD6-178B0EDD2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DCC15-7908-4AE8-922C-4E72BBBAD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9D19-4230-4164-B0B1-458ECAB76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AD9B2-279A-4150-83E3-FD5C829C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C8442-8321-41F3-9ACD-98ED8ECBA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18F3E-8117-4A32-AF9A-2254AA994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DA83B-46A8-4749-B4D6-775095432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DEBC1-1204-4008-8431-368C0802B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F08F-BAA7-4EFB-A2A3-B1896717E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3792-AF98-40C3-BD99-6F23CCC95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B069-03D6-4DD9-A3AB-6E3480741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A2AC-7554-44FE-BAF8-217FDF41C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160C-40EF-4BF8-9D40-6EAF37D5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1098-95E2-468F-BE41-39F8A8802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5604-BED7-412E-ACD2-1D3A688F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DFBDC-F586-4949-B02C-90B3E96375F6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3B270-0617-4768-B585-2429B843E4CB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18.gif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gif"/><Relationship Id="rId6" Type="http://schemas.openxmlformats.org/officeDocument/2006/relationships/image" Target="../media/image8.gif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195640" y="765000"/>
            <a:ext cx="6119640" cy="196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寻找记忆的钥匙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91" name=""/>
          <p:cNvSpPr/>
          <p:nvPr/>
        </p:nvSpPr>
        <p:spPr>
          <a:xfrm>
            <a:off x="3780000" y="3500280"/>
            <a:ext cx="46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黑体"/>
                <a:ea typeface="黑体"/>
              </a:rPr>
              <a:t>主题班会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 rot="16200000">
            <a:off x="-4320" y="4909680"/>
            <a:ext cx="1841400" cy="8953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79280" y="333360"/>
            <a:ext cx="144000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187280" y="2491920"/>
            <a:ext cx="7772400" cy="26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黑体"/>
                <a:ea typeface="黑体"/>
              </a:rPr>
              <a:t>轮船  山峰  葡萄  气球  河马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黑体"/>
                <a:ea typeface="黑体"/>
              </a:rPr>
              <a:t>飞碟  玉米  帽子  算盘  火炬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59280" y="620640"/>
            <a:ext cx="35352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cap="sq" w="9360">
                  <a:solidFill>
                    <a:srgbClr val="ff99cc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隶书"/>
              </a:rPr>
              <a:t>你记对了吗？</a:t>
            </a:r>
            <a:endParaRPr b="0" i="1" lang="en-US" sz="2400" spc="1" strike="noStrike">
              <a:ln cap="sq" w="9360">
                <a:solidFill>
                  <a:srgbClr val="ff99cc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187280" y="4581360"/>
            <a:ext cx="238140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038240" y="333360"/>
            <a:ext cx="810576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记忆下面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10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个词语，要求按原来的顺序背出来，时间限定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分钟：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黑体"/>
                <a:ea typeface="黑体"/>
              </a:rPr>
              <a:t>汽车  小河  红枣  手枪  老牛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黑体"/>
                <a:ea typeface="黑体"/>
              </a:rPr>
              <a:t>大雾  火箭  阿姨  茶水  黑猫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556000" y="4005360"/>
            <a:ext cx="504036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sq"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方正姚体"/>
              </a:rPr>
              <a:t>联想记忆法</a:t>
            </a:r>
            <a:endParaRPr b="0" lang="en-US" sz="2400" spc="1" strike="noStrike">
              <a:ln cap="sq"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方正姚体"/>
              <a:ea typeface="方正姚体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276720" y="5353200"/>
            <a:ext cx="1726920" cy="15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187280" y="2204640"/>
            <a:ext cx="77724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黑体"/>
                <a:ea typeface="黑体"/>
              </a:rPr>
              <a:t>汽车  小河  红枣  手枪  老牛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黑体"/>
                <a:ea typeface="黑体"/>
              </a:rPr>
              <a:t>大雾  火箭  阿姨  茶水  黑猫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59280" y="620640"/>
            <a:ext cx="35352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cap="sq" w="9360">
                  <a:solidFill>
                    <a:srgbClr val="ff99cc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隶书"/>
              </a:rPr>
              <a:t>你记对了吗？</a:t>
            </a:r>
            <a:endParaRPr b="0" i="1" lang="en-US" sz="2400" spc="1" strike="noStrike">
              <a:ln cap="sq" w="9360">
                <a:solidFill>
                  <a:srgbClr val="ff99cc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258920" y="260280"/>
            <a:ext cx="1657440" cy="16574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762600" y="4743360"/>
            <a:ext cx="238140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371600" y="177336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联想是一种思维方式，也是一种记忆方法。心理学家认为：记忆要依靠联想，而联想则是新旧知识建立联系的产物。旧知识积累得越多，新知识涉猎得越广，就越容易产生联想，越容易理解和记住新知识。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140360" y="476280"/>
            <a:ext cx="12967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979200" y="2421000"/>
            <a:ext cx="816444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9900"/>
                </a:solidFill>
                <a:latin typeface="宋体"/>
              </a:rPr>
              <a:t>1</a:t>
            </a:r>
            <a:r>
              <a:rPr b="1" lang="zh-CN" sz="4800" spc="-1" strike="noStrike">
                <a:solidFill>
                  <a:srgbClr val="ff9900"/>
                </a:solidFill>
                <a:latin typeface="宋体"/>
              </a:rPr>
              <a:t>、奇特联想法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黑体"/>
                <a:ea typeface="黑体"/>
              </a:rPr>
              <a:t>（想象须大胆，物象必鲜明，尽量联自己）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050920" y="260280"/>
            <a:ext cx="604836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sq" w="93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方正舒体"/>
              </a:rPr>
              <a:t>联想记忆法</a:t>
            </a:r>
            <a:endParaRPr b="0" lang="en-US" sz="2400" spc="1" strike="noStrike">
              <a:ln cap="sq" w="936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方正舒体"/>
              <a:ea typeface="方正舒体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-252360" y="2637000"/>
            <a:ext cx="2154240" cy="39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187280" y="620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ff9900"/>
                </a:solidFill>
                <a:latin typeface="宋体"/>
              </a:rPr>
              <a:t>、类似联想法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黑体"/>
                <a:ea typeface="黑体"/>
              </a:rPr>
              <a:t>（运用事物的共同性与相似性联想）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黑体"/>
                <a:ea typeface="黑体"/>
              </a:rPr>
              <a:t>记英语单词：运用意义类似联想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黑体"/>
                <a:ea typeface="黑体"/>
              </a:rPr>
              <a:t>例：</a:t>
            </a:r>
            <a:r>
              <a:rPr b="1" lang="zh-CN" sz="3200" spc="-1" strike="noStrike">
                <a:solidFill>
                  <a:srgbClr val="eaeaea"/>
                </a:solidFill>
                <a:latin typeface="黑体"/>
                <a:ea typeface="黑体"/>
              </a:rPr>
              <a:t>road(</a:t>
            </a:r>
            <a:r>
              <a:rPr b="1" lang="zh-CN" sz="3200" spc="-1" strike="noStrike">
                <a:solidFill>
                  <a:srgbClr val="eaeaea"/>
                </a:solidFill>
                <a:latin typeface="黑体"/>
                <a:ea typeface="黑体"/>
              </a:rPr>
              <a:t>路</a:t>
            </a:r>
            <a:r>
              <a:rPr b="1" lang="zh-CN" sz="3200" spc="-1" strike="noStrike">
                <a:solidFill>
                  <a:srgbClr val="eaeaea"/>
                </a:solidFill>
                <a:latin typeface="黑体"/>
                <a:ea typeface="黑体"/>
              </a:rPr>
              <a:t>)steet(</a:t>
            </a:r>
            <a:r>
              <a:rPr b="1" lang="zh-CN" sz="3200" spc="-1" strike="noStrike">
                <a:solidFill>
                  <a:srgbClr val="eaeaea"/>
                </a:solidFill>
                <a:latin typeface="黑体"/>
                <a:ea typeface="黑体"/>
              </a:rPr>
              <a:t>街</a:t>
            </a:r>
            <a:r>
              <a:rPr b="1" lang="zh-CN" sz="3200" spc="-1" strike="noStrike">
                <a:solidFill>
                  <a:srgbClr val="eaeaea"/>
                </a:solidFill>
                <a:latin typeface="黑体"/>
                <a:ea typeface="黑体"/>
              </a:rPr>
              <a:t>)lane( </a:t>
            </a:r>
            <a:r>
              <a:rPr b="1" lang="zh-CN" sz="3200" spc="-1" strike="noStrike">
                <a:solidFill>
                  <a:srgbClr val="eaeaea"/>
                </a:solidFill>
                <a:latin typeface="黑体"/>
                <a:ea typeface="黑体"/>
              </a:rPr>
              <a:t>小路 </a:t>
            </a:r>
            <a:r>
              <a:rPr b="1" lang="zh-CN" sz="3200" spc="-1" strike="noStrike">
                <a:solidFill>
                  <a:srgbClr val="eaeaea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eaeaea"/>
                </a:solidFill>
                <a:latin typeface="黑体"/>
                <a:ea typeface="黑体"/>
              </a:rPr>
              <a:t>way(</a:t>
            </a:r>
            <a:r>
              <a:rPr b="1" lang="zh-CN" sz="3200" spc="-1" strike="noStrike">
                <a:solidFill>
                  <a:srgbClr val="eaeaea"/>
                </a:solidFill>
                <a:latin typeface="黑体"/>
                <a:ea typeface="黑体"/>
              </a:rPr>
              <a:t>道路</a:t>
            </a:r>
            <a:r>
              <a:rPr b="1" lang="zh-CN" sz="3200" spc="-1" strike="noStrike">
                <a:solidFill>
                  <a:srgbClr val="eaeaea"/>
                </a:solidFill>
                <a:latin typeface="黑体"/>
                <a:ea typeface="黑体"/>
              </a:rPr>
              <a:t>)highway</a:t>
            </a:r>
            <a:r>
              <a:rPr b="1" lang="zh-CN" sz="3200" spc="-1" strike="noStrike">
                <a:solidFill>
                  <a:srgbClr val="eaeaea"/>
                </a:solidFill>
                <a:latin typeface="黑体"/>
                <a:ea typeface="黑体"/>
              </a:rPr>
              <a:t>（公路）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黑体"/>
                <a:ea typeface="黑体"/>
              </a:rPr>
              <a:t>运用声音类似联想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黑体"/>
                <a:ea typeface="黑体"/>
              </a:rPr>
              <a:t>例：</a:t>
            </a:r>
            <a:r>
              <a:rPr b="1" lang="zh-CN" sz="3200" spc="-1" strike="noStrike">
                <a:solidFill>
                  <a:srgbClr val="eaeaea"/>
                </a:solidFill>
                <a:latin typeface="黑体"/>
                <a:ea typeface="黑体"/>
              </a:rPr>
              <a:t>fight(</a:t>
            </a:r>
            <a:r>
              <a:rPr b="1" lang="zh-CN" sz="3200" spc="-1" strike="noStrike">
                <a:solidFill>
                  <a:srgbClr val="eaeaea"/>
                </a:solidFill>
                <a:latin typeface="黑体"/>
                <a:ea typeface="黑体"/>
              </a:rPr>
              <a:t>战斗</a:t>
            </a:r>
            <a:r>
              <a:rPr b="1" lang="zh-CN" sz="3200" spc="-1" strike="noStrike">
                <a:solidFill>
                  <a:srgbClr val="eaeaea"/>
                </a:solidFill>
                <a:latin typeface="黑体"/>
                <a:ea typeface="黑体"/>
              </a:rPr>
              <a:t>)light(</a:t>
            </a:r>
            <a:r>
              <a:rPr b="1" lang="zh-CN" sz="3200" spc="-1" strike="noStrike">
                <a:solidFill>
                  <a:srgbClr val="eaeaea"/>
                </a:solidFill>
                <a:latin typeface="黑体"/>
                <a:ea typeface="黑体"/>
              </a:rPr>
              <a:t>光</a:t>
            </a:r>
            <a:r>
              <a:rPr b="1" lang="zh-CN" sz="3200" spc="-1" strike="noStrike">
                <a:solidFill>
                  <a:srgbClr val="eaeaea"/>
                </a:solidFill>
                <a:latin typeface="黑体"/>
                <a:ea typeface="黑体"/>
              </a:rPr>
              <a:t>)might(</a:t>
            </a:r>
            <a:r>
              <a:rPr b="1" lang="zh-CN" sz="3200" spc="-1" strike="noStrike">
                <a:solidFill>
                  <a:srgbClr val="eaeaea"/>
                </a:solidFill>
                <a:latin typeface="黑体"/>
                <a:ea typeface="黑体"/>
              </a:rPr>
              <a:t>力气</a:t>
            </a:r>
            <a:r>
              <a:rPr b="1" lang="zh-CN" sz="3200" spc="-1" strike="noStrike">
                <a:solidFill>
                  <a:srgbClr val="eaeaea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eaeaea"/>
                </a:solidFill>
                <a:latin typeface="黑体"/>
                <a:ea typeface="黑体"/>
              </a:rPr>
              <a:t>night(</a:t>
            </a:r>
            <a:r>
              <a:rPr b="1" lang="zh-CN" sz="3200" spc="-1" strike="noStrike">
                <a:solidFill>
                  <a:srgbClr val="eaeaea"/>
                </a:solidFill>
                <a:latin typeface="黑体"/>
                <a:ea typeface="黑体"/>
              </a:rPr>
              <a:t>夜</a:t>
            </a:r>
            <a:r>
              <a:rPr b="1" lang="zh-CN" sz="3200" spc="-1" strike="noStrike">
                <a:solidFill>
                  <a:srgbClr val="eaeaea"/>
                </a:solidFill>
                <a:latin typeface="黑体"/>
                <a:ea typeface="黑体"/>
              </a:rPr>
              <a:t>)right(</a:t>
            </a:r>
            <a:r>
              <a:rPr b="1" lang="zh-CN" sz="3200" spc="-1" strike="noStrike">
                <a:solidFill>
                  <a:srgbClr val="eaeaea"/>
                </a:solidFill>
                <a:latin typeface="黑体"/>
                <a:ea typeface="黑体"/>
              </a:rPr>
              <a:t>正确</a:t>
            </a:r>
            <a:r>
              <a:rPr b="1" lang="zh-CN" sz="3200" spc="-1" strike="noStrike">
                <a:solidFill>
                  <a:srgbClr val="eaeaea"/>
                </a:solidFill>
                <a:latin typeface="黑体"/>
                <a:ea typeface="黑体"/>
              </a:rPr>
              <a:t>)sight(</a:t>
            </a:r>
            <a:r>
              <a:rPr b="1" lang="zh-CN" sz="3200" spc="-1" strike="noStrike">
                <a:solidFill>
                  <a:srgbClr val="eaeaea"/>
                </a:solidFill>
                <a:latin typeface="黑体"/>
                <a:ea typeface="黑体"/>
              </a:rPr>
              <a:t>风景</a:t>
            </a:r>
            <a:r>
              <a:rPr b="1" lang="zh-CN" sz="3200" spc="-1" strike="noStrike">
                <a:solidFill>
                  <a:srgbClr val="eaeaea"/>
                </a:solidFill>
                <a:latin typeface="黑体"/>
                <a:ea typeface="黑体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4437000"/>
            <a:ext cx="130032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187280" y="1557360"/>
            <a:ext cx="7740720" cy="4411440"/>
          </a:xfrm>
          <a:prstGeom prst="rect">
            <a:avLst/>
          </a:prstGeom>
          <a:noFill/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</a:rPr>
              <a:t>你能说出我国各省、自治区、直辖市的名称吗？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黑体"/>
              </a:rPr>
              <a:t>两湖两广两河山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黑体"/>
              </a:rPr>
              <a:t>三江云贵吉福安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黑体"/>
              </a:rPr>
              <a:t>双宁北上四台天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黑体"/>
              </a:rPr>
              <a:t>新西黑蒙青陕甘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黑体"/>
              </a:rPr>
              <a:t>海南重庆新增添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835280" y="0"/>
            <a:ext cx="590364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sq"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华文行楷"/>
              </a:rPr>
              <a:t>考考你的记忆力</a:t>
            </a:r>
            <a:endParaRPr b="0" lang="en-US" sz="2400" spc="1" strike="noStrike">
              <a:ln cap="sq"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sq"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华文行楷"/>
              </a:rPr>
              <a:t>（三）</a:t>
            </a:r>
            <a:endParaRPr b="0" lang="en-US" sz="2400" spc="1" strike="noStrike">
              <a:ln cap="sq"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1258920" y="3429000"/>
            <a:ext cx="196848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116000" y="692280"/>
            <a:ext cx="77724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</a:rPr>
              <a:t>你能说出我国古代各朝代的名称吗？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Times New Roman"/>
              </a:rPr>
              <a:t>夏代商代与西周，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Times New Roman"/>
              </a:rPr>
              <a:t>春秋战国乱悠悠。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Times New Roman"/>
              </a:rPr>
              <a:t>秦汉三国晋统一，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Times New Roman"/>
              </a:rPr>
              <a:t>南朝北朝是对头。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Times New Roman"/>
              </a:rPr>
              <a:t>隋唐五代又十国，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Times New Roman"/>
              </a:rPr>
              <a:t>宋元明清帝王休。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308720" y="4076640"/>
            <a:ext cx="168300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979640" y="1773360"/>
            <a:ext cx="6265800" cy="190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歌诀记忆法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7740720" y="5661000"/>
            <a:ext cx="1187280" cy="9540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1187280" y="260280"/>
            <a:ext cx="1187640" cy="9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115640" y="2362320"/>
            <a:ext cx="8204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</a:rPr>
              <a:t>你知道马克思的诞辰是哪一天吗？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黑体"/>
                <a:ea typeface="黑体"/>
              </a:rPr>
              <a:t>1818</a:t>
            </a:r>
            <a:r>
              <a:rPr b="1" lang="zh-CN" sz="4000" spc="-1" strike="noStrike">
                <a:solidFill>
                  <a:srgbClr val="eaeaea"/>
                </a:solidFill>
                <a:latin typeface="黑体"/>
                <a:ea typeface="黑体"/>
              </a:rPr>
              <a:t>年</a:t>
            </a:r>
            <a:r>
              <a:rPr b="1" lang="zh-CN" sz="4000" spc="-1" strike="noStrike">
                <a:solidFill>
                  <a:srgbClr val="eaeaea"/>
                </a:solidFill>
                <a:latin typeface="黑体"/>
                <a:ea typeface="黑体"/>
              </a:rPr>
              <a:t>5</a:t>
            </a:r>
            <a:r>
              <a:rPr b="1" lang="zh-CN" sz="4000" spc="-1" strike="noStrike">
                <a:solidFill>
                  <a:srgbClr val="eaeaea"/>
                </a:solidFill>
                <a:latin typeface="黑体"/>
                <a:ea typeface="黑体"/>
              </a:rPr>
              <a:t>月</a:t>
            </a:r>
            <a:r>
              <a:rPr b="1" lang="zh-CN" sz="4000" spc="-1" strike="noStrike">
                <a:solidFill>
                  <a:srgbClr val="eaeaea"/>
                </a:solidFill>
                <a:latin typeface="黑体"/>
                <a:ea typeface="黑体"/>
              </a:rPr>
              <a:t>5</a:t>
            </a:r>
            <a:r>
              <a:rPr b="1" lang="zh-CN" sz="4000" spc="-1" strike="noStrike">
                <a:solidFill>
                  <a:srgbClr val="eaeaea"/>
                </a:solidFill>
                <a:latin typeface="黑体"/>
                <a:ea typeface="黑体"/>
              </a:rPr>
              <a:t>日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黑体"/>
                <a:ea typeface="黑体"/>
              </a:rPr>
              <a:t>（马克思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一巴掌一巴掌</a:t>
            </a:r>
            <a:r>
              <a:rPr b="1" lang="zh-CN" sz="4000" spc="-1" strike="noStrike">
                <a:solidFill>
                  <a:srgbClr val="eaeaea"/>
                </a:solidFill>
                <a:latin typeface="黑体"/>
                <a:ea typeface="黑体"/>
              </a:rPr>
              <a:t>打得资本主义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呜呜</a:t>
            </a:r>
            <a:r>
              <a:rPr b="1" lang="zh-CN" sz="4000" spc="-1" strike="noStrike">
                <a:solidFill>
                  <a:srgbClr val="eaeaea"/>
                </a:solidFill>
                <a:latin typeface="黑体"/>
                <a:ea typeface="黑体"/>
              </a:rPr>
              <a:t>地哭起来）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2195640" y="1268280"/>
            <a:ext cx="5903640" cy="1459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sq"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华文行楷"/>
              </a:rPr>
              <a:t>考考你的记忆力</a:t>
            </a:r>
            <a:endParaRPr b="0" lang="en-US" sz="2400" spc="1" strike="noStrike">
              <a:ln cap="sq"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sq"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华文行楷"/>
              </a:rPr>
              <a:t>（四）</a:t>
            </a:r>
            <a:endParaRPr b="0" lang="en-US" sz="2400" spc="1" strike="noStrike">
              <a:ln cap="sq"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6516720" y="4743360"/>
            <a:ext cx="238104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2340000" y="1125360"/>
            <a:ext cx="5256360" cy="268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sq"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华文行楷"/>
              </a:rPr>
              <a:t>考考你的记忆力</a:t>
            </a:r>
            <a:endParaRPr b="0" lang="en-US" sz="2400" spc="1" strike="noStrike">
              <a:ln cap="sq"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sq"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华文行楷"/>
              </a:rPr>
              <a:t>（一）</a:t>
            </a:r>
            <a:endParaRPr b="0" lang="en-US" sz="2400" spc="1" strike="noStrike">
              <a:ln cap="sq"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1476360" y="333360"/>
            <a:ext cx="1187640" cy="954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6762600" y="4743360"/>
            <a:ext cx="238140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2124000" y="2781360"/>
            <a:ext cx="5688000" cy="170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sq" w="12600">
                  <a:solidFill>
                    <a:srgbClr val="ffff00"/>
                  </a:solidFill>
                  <a:miter/>
                </a:ln>
                <a:solidFill>
                  <a:srgbClr val="ff00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谐音记忆法</a:t>
            </a:r>
            <a:endParaRPr b="0" lang="en-US" sz="2400" spc="1" strike="noStrike">
              <a:ln cap="sq" w="12600">
                <a:solidFill>
                  <a:srgbClr val="ffff00"/>
                </a:solidFill>
                <a:miter/>
              </a:ln>
              <a:solidFill>
                <a:srgbClr val="ff00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971640" y="549360"/>
            <a:ext cx="251928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古代四书的名称：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《孟子》《论语》《大学》《中庸》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Times New Roman"/>
              </a:rPr>
              <a:t>谐音：“猛抡大钟”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7667640" y="189000"/>
            <a:ext cx="1187280" cy="954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258920" y="5661000"/>
            <a:ext cx="1187280" cy="9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66"/>
                </a:solidFill>
                <a:latin typeface="Times New Roman"/>
              </a:rPr>
              <a:t>你找到记忆的“钥匙”了吗？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7280" y="256500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。目的记忆法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。联想记忆法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。歌诀记忆法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。谐音记忆法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251928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684000" y="620280"/>
            <a:ext cx="8459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黑体"/>
              </a:rPr>
              <a:t>有奖问题征答：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Times New Roman"/>
                <a:ea typeface="黑体"/>
              </a:rPr>
              <a:t>“</a:t>
            </a:r>
            <a:r>
              <a:rPr b="1" lang="zh-CN" sz="4400" spc="-1" strike="noStrike">
                <a:solidFill>
                  <a:srgbClr val="eaeaea"/>
                </a:solidFill>
                <a:latin typeface="Times New Roman"/>
                <a:ea typeface="黑体"/>
              </a:rPr>
              <a:t>四书五经”的五经是指：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Times New Roman"/>
                <a:ea typeface="黑体"/>
              </a:rPr>
              <a:t>《周易》《诗经》《尚书》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Times New Roman"/>
                <a:ea typeface="黑体"/>
              </a:rPr>
              <a:t>《礼记》《春秋》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Times New Roman"/>
                <a:ea typeface="黑体"/>
              </a:rPr>
              <a:t>你能找到记住它的最佳方法吗？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268360" y="1773360"/>
            <a:ext cx="5688360" cy="41479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4211640" y="404640"/>
            <a:ext cx="2521080" cy="103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再见</a:t>
            </a:r>
            <a:endParaRPr b="0" lang="en-US" sz="24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187280" y="0"/>
            <a:ext cx="795672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现在你从公共汽车总站上车，车上除了司机和你自己外，还有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个人。下面是每一站下车和上车的乘客人数：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第一站下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人，上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人；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下一站没下人，上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人；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下一站下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人，上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人；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下一站下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人；没上人；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下一站下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人；上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人；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下一站下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人；没上人；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下一站没下人；上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人；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下一站下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人；上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eaeaea"/>
                </a:solidFill>
                <a:latin typeface="Times New Roman"/>
              </a:rPr>
              <a:t>人；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740720" y="5661000"/>
            <a:ext cx="1187280" cy="9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116000" y="333360"/>
            <a:ext cx="8028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Times New Roman"/>
              </a:rPr>
              <a:t>请问公共汽车现在停了几站？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16000" y="2492280"/>
            <a:ext cx="8028000" cy="41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第一次问：回答正确 </a:t>
            </a:r>
            <a:r>
              <a:rPr b="1" lang="zh-CN" sz="3200" spc="-1" strike="noStrike" u="sng">
                <a:solidFill>
                  <a:srgbClr val="eaeaea"/>
                </a:solidFill>
                <a:uFillTx/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人，正确率</a:t>
            </a:r>
            <a:r>
              <a:rPr b="1" lang="zh-CN" sz="3200" spc="-1" strike="noStrike" u="sng">
                <a:solidFill>
                  <a:srgbClr val="eaeaea"/>
                </a:solidFill>
                <a:uFillTx/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                      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（目的错误）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第二次问：回答正确 </a:t>
            </a:r>
            <a:r>
              <a:rPr b="1" lang="zh-CN" sz="3200" spc="-1" strike="noStrike" u="sng">
                <a:solidFill>
                  <a:srgbClr val="eaeaea"/>
                </a:solidFill>
                <a:uFillTx/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人，正确率</a:t>
            </a:r>
            <a:r>
              <a:rPr b="1" lang="zh-CN" sz="3200" spc="-1" strike="noStrike" u="sng">
                <a:solidFill>
                  <a:srgbClr val="eaeaea"/>
                </a:solidFill>
                <a:uFillTx/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                      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（目标明确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740720" y="5904000"/>
            <a:ext cx="1187280" cy="954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332000" y="1268280"/>
            <a:ext cx="865080" cy="6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116000" y="476280"/>
            <a:ext cx="7777080" cy="31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Times New Roman"/>
                <a:ea typeface="黑体"/>
              </a:rPr>
              <a:t>为什么目的明确会提高记忆效果呢？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黑体"/>
              </a:rPr>
              <a:t>心理学家认为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有了明确的记忆目标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黑体"/>
              </a:rPr>
              <a:t>，可以集中记忆力，也可以向自己提出要求：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“一定要长久地记住它！”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黑体"/>
              </a:rPr>
              <a:t>这样，大脑皮层就能够形成一个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优势的兴奋中心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黑体"/>
              </a:rPr>
              <a:t>，在那里容易形成暂时神经联系，并使之长久地固定下来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Times New Roman"/>
                <a:ea typeface="黑体"/>
              </a:rPr>
              <a:t>而记忆目的不明确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黑体"/>
              </a:rPr>
              <a:t>，注意力就随时有可能被分散和转移，</a:t>
            </a:r>
            <a:r>
              <a:rPr b="1" lang="zh-CN" sz="3200" spc="-1" strike="noStrike">
                <a:solidFill>
                  <a:srgbClr val="ff9900"/>
                </a:solidFill>
                <a:latin typeface="Times New Roman"/>
                <a:ea typeface="黑体"/>
              </a:rPr>
              <a:t>大脑皮层兴奋中心形不成优势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  <a:ea typeface="黑体"/>
              </a:rPr>
              <a:t>，记忆效果也自然降低了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195640" y="1916280"/>
            <a:ext cx="5976720" cy="158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中宋"/>
              </a:rPr>
              <a:t>目的记忆法</a:t>
            </a:r>
            <a:endParaRPr b="0" lang="en-US" sz="24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740720" y="5661000"/>
            <a:ext cx="1187280" cy="954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187280" y="189000"/>
            <a:ext cx="1187640" cy="9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332000" y="260280"/>
            <a:ext cx="78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记忆的目的似乎是个很简单的问题，但在实际生活中有不少人却做不到。他们看书学习完全没有预定的目的，仅仅凭兴趣，碰到什么学什么，遇到什么记什么。这样，事情一过去，“记住”的知识又忘了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7164360" y="4581360"/>
            <a:ext cx="16207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150920" y="189000"/>
            <a:ext cx="7993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在学习活动中，为了提高记忆的效率，我们既要有长远的目标，又要有近期的计划。</a:t>
            </a:r>
            <a:r>
              <a:rPr b="1" lang="zh-CN" sz="4000" spc="-1" strike="noStrike">
                <a:solidFill>
                  <a:srgbClr val="eaeaea"/>
                </a:solidFill>
                <a:latin typeface="Times New Roman"/>
              </a:rPr>
              <a:t>没有长远目标，学习便没有方向；没有近期目标，长远目标就成了空中楼阁。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科学的做法是把长远目标与近期计划结合起来。</a:t>
            </a:r>
            <a:r>
              <a:rPr b="1" lang="zh-CN" sz="4000" spc="-1" strike="noStrike">
                <a:solidFill>
                  <a:srgbClr val="eaeaea"/>
                </a:solidFill>
                <a:latin typeface="Times New Roman"/>
              </a:rPr>
              <a:t>还要经常地、有意识地对自己提出长期的甚至是永久的记忆要求，以便把知识记得更牢。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5013360"/>
            <a:ext cx="1182600" cy="12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042560" y="2133720"/>
            <a:ext cx="8101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黑体"/>
                <a:ea typeface="黑体"/>
              </a:rPr>
              <a:t>记忆下面</a:t>
            </a:r>
            <a:r>
              <a:rPr b="1" lang="zh-CN" sz="4000" spc="-1" strike="noStrike">
                <a:solidFill>
                  <a:srgbClr val="eaeaea"/>
                </a:solidFill>
                <a:latin typeface="黑体"/>
                <a:ea typeface="黑体"/>
              </a:rPr>
              <a:t>10</a:t>
            </a:r>
            <a:r>
              <a:rPr b="1" lang="zh-CN" sz="4000" spc="-1" strike="noStrike">
                <a:solidFill>
                  <a:srgbClr val="eaeaea"/>
                </a:solidFill>
                <a:latin typeface="黑体"/>
                <a:ea typeface="黑体"/>
              </a:rPr>
              <a:t>个词语，要求按原来的顺序背出来，时间限定</a:t>
            </a:r>
            <a:r>
              <a:rPr b="1" lang="zh-CN" sz="4000" spc="-1" strike="noStrike">
                <a:solidFill>
                  <a:srgbClr val="eaeaea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eaeaea"/>
                </a:solidFill>
                <a:latin typeface="黑体"/>
                <a:ea typeface="黑体"/>
              </a:rPr>
              <a:t>分钟：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黑体"/>
                <a:ea typeface="黑体"/>
              </a:rPr>
              <a:t>轮船  山峰  葡萄  气球  河马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黑体"/>
                <a:ea typeface="黑体"/>
              </a:rPr>
              <a:t>飞碟  玉米  帽子  算盘  火炬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908000" y="189000"/>
            <a:ext cx="590400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sq"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华文行楷"/>
              </a:rPr>
              <a:t>考考你的记忆力</a:t>
            </a:r>
            <a:endParaRPr b="0" lang="en-US" sz="2400" spc="1" strike="noStrike">
              <a:ln cap="sq"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sq"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华文行楷"/>
              </a:rPr>
              <a:t>（二）</a:t>
            </a:r>
            <a:endParaRPr b="0" lang="en-US" sz="2400" spc="1" strike="noStrike">
              <a:ln cap="sq"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0" y="5157720"/>
            <a:ext cx="15112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6T03:53:11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1:37:47Z</dcterms:modified>
  <cp:revision>60</cp:revision>
  <dc:subject>主题班会课件(分28大类): http://shop62905894.taobao.com</dc:subject>
  <dc:title>主题班会课件(分28大类): http://shop62905894.taobao.com</dc:title>
</cp:coreProperties>
</file>